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152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1DE26-BBC8-4078-9249-4F89787541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7A827-30DC-41AD-BFCC-9ED1D98D34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C211-92D1-47BA-8DF7-98683F9149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11052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9520" y="4063680"/>
            <a:ext cx="11052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9AB7-ED08-476F-B9D4-4E3E4AEE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040" y="175392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9520" y="406368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3040" y="406368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350D-34A2-470E-9883-4F93003B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3558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6320" y="1753920"/>
            <a:ext cx="3558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73480" y="1753920"/>
            <a:ext cx="3558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9520" y="4063680"/>
            <a:ext cx="3558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6320" y="4063680"/>
            <a:ext cx="3558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73480" y="4063680"/>
            <a:ext cx="3558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CE3B3-3BA7-45A6-B002-A2A7DEAB3F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ACBE9-BC77-449E-AA47-332EE53A58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99520" y="1753920"/>
            <a:ext cx="110523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9EB01-11C5-4BE3-A279-78C31020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11052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7DA18-9490-4690-8CD1-68583541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5393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3040" y="1753920"/>
            <a:ext cx="5393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CC8F9-47E1-40DD-87C8-D289BD83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411F2-4AE0-4A54-AF7D-706DDA99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9520" y="274680"/>
            <a:ext cx="110523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CAAE5-746C-4DFF-8189-4B5B5ADE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3040" y="1753920"/>
            <a:ext cx="5393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99520" y="406368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330A6-8D95-4705-9B7D-78A04E17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9520" y="1753920"/>
            <a:ext cx="110523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46DFE-3CCD-46BC-878E-A9ED6053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5393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3040" y="175392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3040" y="406368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590C9-8BD6-4B43-AEBB-669676E3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3040" y="175392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9520" y="4063680"/>
            <a:ext cx="11052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63DD8-B995-46BA-92FF-CFCB1036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11052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9520" y="4063680"/>
            <a:ext cx="11052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31533-7CD4-4351-96EA-2F6EC26B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3040" y="175392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99520" y="406368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3040" y="406368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5D8B2-A1D8-400B-B362-9F21ED4B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3558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36320" y="1753920"/>
            <a:ext cx="3558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73480" y="1753920"/>
            <a:ext cx="3558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9520" y="4063680"/>
            <a:ext cx="3558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36320" y="4063680"/>
            <a:ext cx="3558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73480" y="4063680"/>
            <a:ext cx="3558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4CF60-790D-4BB3-ADF2-6638324AE3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11052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7E113-0ECE-4E25-A200-210890C5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5393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3040" y="1753920"/>
            <a:ext cx="5393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B9B4-B1E0-4366-A112-D81F69D1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D81F-ADDF-4E6A-B3EB-75DF8E0D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9520" y="274680"/>
            <a:ext cx="110523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361D-944B-4698-9E91-59C71153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3040" y="1753920"/>
            <a:ext cx="5393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9520" y="406368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8AB0-DAB7-4828-AA0F-EC11365B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5393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3040" y="175392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3040" y="406368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AF15-9E03-4AED-A3C2-4854C4F5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3040" y="1753920"/>
            <a:ext cx="53935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9520" y="4063680"/>
            <a:ext cx="11052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B2E9-48D4-4F0B-8D51-E0682CB1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9040" y="2037960"/>
            <a:ext cx="75596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D078E-9463-4A6C-B75D-4482398DB6D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9320" bIns="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99520" y="1753920"/>
            <a:ext cx="11052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4FA58-F418-442F-8DED-4C2883C524A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9040" y="2037960"/>
            <a:ext cx="7561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Случайные события.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Вероятность случайного событ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992880" y="549360"/>
            <a:ext cx="16588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64520" y="458640"/>
            <a:ext cx="38473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К: А.Г. Мерзл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information_items_301"/>
          <p:cNvPicPr/>
          <p:nvPr/>
        </p:nvPicPr>
        <p:blipFill>
          <a:blip r:embed="rId1"/>
          <a:stretch/>
        </p:blipFill>
        <p:spPr>
          <a:xfrm rot="1364400">
            <a:off x="9912240" y="2133720"/>
            <a:ext cx="1141560" cy="1295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Three_dice"/>
          <p:cNvPicPr/>
          <p:nvPr/>
        </p:nvPicPr>
        <p:blipFill>
          <a:blip r:embed="rId2"/>
          <a:stretch/>
        </p:blipFill>
        <p:spPr>
          <a:xfrm>
            <a:off x="9408960" y="4076640"/>
            <a:ext cx="238788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Calibri"/>
              </a:rPr>
              <a:t>Задач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4600" y="2060640"/>
            <a:ext cx="110509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Женя, Лена, Маша, Аня и Коля  бросили жребий – кому идти в магазин. Найдите вероятность того, что в магазин  надо будет идти Ане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Решение.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855880" y="4076640"/>
            <a:ext cx="8210520" cy="1927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gs-ic00"/>
          <p:cNvPicPr/>
          <p:nvPr/>
        </p:nvPicPr>
        <p:blipFill>
          <a:blip r:embed="rId2"/>
          <a:stretch/>
        </p:blipFill>
        <p:spPr>
          <a:xfrm>
            <a:off x="6527880" y="260280"/>
            <a:ext cx="46101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9520" y="274320"/>
            <a:ext cx="1105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Calibri"/>
              </a:rPr>
              <a:t>Задач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9520" y="1268280"/>
            <a:ext cx="11052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Georgia"/>
              </a:rPr>
              <a:t>Бросают игральную кость. Найдите вероятность того, что выпадет число, меньшее 4 очков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Georgia"/>
              </a:rPr>
              <a:t>Решение.</a:t>
            </a:r>
            <a:r>
              <a:rPr b="1" i="1" lang="ru-RU" sz="4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480960" y="3645000"/>
            <a:ext cx="8064720" cy="2297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V4016"/>
          <p:cNvPicPr/>
          <p:nvPr/>
        </p:nvPicPr>
        <p:blipFill>
          <a:blip r:embed="rId2"/>
          <a:srcRect l="0" t="0" r="-19" b="19"/>
          <a:stretch/>
        </p:blipFill>
        <p:spPr>
          <a:xfrm>
            <a:off x="8977320" y="4149720"/>
            <a:ext cx="24001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9933ff"/>
                </a:solidFill>
                <a:latin typeface="Arial"/>
              </a:rPr>
              <a:t>Работаем по учебник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11052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тр.173    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  №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809, 811, 813, 815.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94800" y="3499920"/>
            <a:ext cx="4753080" cy="240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. Чётное числ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. Число, кратное 3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880240" y="3429000"/>
            <a:ext cx="5114880" cy="2549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. Нечётное числ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. Число, кратное 4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95160" y="1125360"/>
            <a:ext cx="10730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 В коробке лежат 10 карточек, пронумерованных числами от 1 до 10. Какова вероятность того, что на наугад вынутой карточке будет записа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9520" y="3141360"/>
            <a:ext cx="4751280" cy="215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ариант 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елёным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64240" y="3068640"/>
            <a:ext cx="5449680" cy="216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ариан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олубым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50800" y="1197000"/>
            <a:ext cx="108410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 В коробке лежат 18зелёных и 12 голубых шариков.  Какова вероятность того, что выбранный наугад шарик окаж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50800" y="3715920"/>
            <a:ext cx="5113440" cy="245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ариант 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ыиграть фотоаппарат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ыиграть какой-нибудь пр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01840" y="3715920"/>
            <a:ext cx="5234040" cy="2459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ариан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ыиграть телевизор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 выиграть никакого приз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95160" y="1341360"/>
            <a:ext cx="10514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 В лотерее разыгрывалось 5 телевизоров, 25 магнитофонов, 30 фотоаппаратов. Всего было выпущено 3000 лотерейных билетов. Какова вероятность выигр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9933ff"/>
                </a:solidFill>
                <a:latin typeface="Arial"/>
              </a:rPr>
              <a:t>Домашняя работ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11052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тр.173    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  №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810, 812, 814, 816.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Calibri"/>
              </a:rPr>
              <a:t>Вспомни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9520" y="1412640"/>
            <a:ext cx="110523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566dae"/>
                </a:solidFill>
                <a:latin typeface="Times New Roman"/>
              </a:rPr>
              <a:t>Какими способами мы умеем решать комбинаторные задачи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Таблица вариантов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Дерево вариантов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равило умножения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9933ff"/>
                </a:solidFill>
                <a:latin typeface="Calibri"/>
              </a:rPr>
              <a:t>События бываю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9520" y="1483920"/>
            <a:ext cx="11052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eorgia"/>
              </a:rPr>
              <a:t>Случайными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eorgia"/>
              </a:rPr>
              <a:t>Невозможными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eorgia"/>
              </a:rPr>
              <a:t>Достоверными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8" name="Picture 4" descr="the-writing-life-turning-coin-over-68397"/>
          <p:cNvPicPr/>
          <p:nvPr/>
        </p:nvPicPr>
        <p:blipFill>
          <a:blip r:embed="rId1"/>
          <a:stretch/>
        </p:blipFill>
        <p:spPr>
          <a:xfrm>
            <a:off x="8040600" y="1341360"/>
            <a:ext cx="345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Calibri"/>
              </a:rPr>
              <a:t>Определ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9520" y="1413000"/>
            <a:ext cx="11052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обытие, которое в одних и тех же условиях может произойти, а может и не произойти, называют </a:t>
            </a:r>
            <a:r>
              <a:rPr b="1" lang="ru-RU" sz="3600" spc="-1" strike="noStrike">
                <a:solidFill>
                  <a:srgbClr val="3333cc"/>
                </a:solidFill>
                <a:latin typeface="Georgia"/>
              </a:rPr>
              <a:t>случайным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Georgia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дбрасываем монету. Появился герб. А ведь мог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явиться и цифра. То что появился Герб -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случайное событ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трелок поражает цель. Но мог и не попасть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падание в цель–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случайное событ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Calibri"/>
              </a:rPr>
              <a:t>Определ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9520" y="1196640"/>
            <a:ext cx="110523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обытия, которые в данных условиях никогда не происходят, называются </a:t>
            </a:r>
            <a:r>
              <a:rPr b="1" lang="ru-RU" sz="4000" spc="-1" strike="noStrike">
                <a:solidFill>
                  <a:srgbClr val="3333cc"/>
                </a:solidFill>
                <a:latin typeface="Georgia"/>
              </a:rPr>
              <a:t>невозможными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Georgia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ода в реке замёрзла при температуре +25 градусах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 бросании игрального кубика появилось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7 очк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3" name="Picture 4" descr="V4016"/>
          <p:cNvPicPr/>
          <p:nvPr/>
        </p:nvPicPr>
        <p:blipFill>
          <a:blip r:embed="rId1"/>
          <a:srcRect l="0" t="0" r="-19" b="19"/>
          <a:stretch/>
        </p:blipFill>
        <p:spPr>
          <a:xfrm>
            <a:off x="10128240" y="5373720"/>
            <a:ext cx="1319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4440" y="259920"/>
            <a:ext cx="1105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Calibri"/>
              </a:rPr>
              <a:t>Определ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4440" y="1267920"/>
            <a:ext cx="110523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обытия, которые при данных условиях обязательно происходят, называют </a:t>
            </a:r>
            <a:r>
              <a:rPr b="1" lang="ru-RU" sz="4000" spc="-1" strike="noStrike">
                <a:solidFill>
                  <a:srgbClr val="3333cc"/>
                </a:solidFill>
                <a:latin typeface="Georgia"/>
              </a:rPr>
              <a:t>достоверными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Georgia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сле четверга наступила пятница;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и бросании игрального кубика появилось число    меньшее 7 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6" name="Picture 5" descr="V4016"/>
          <p:cNvPicPr/>
          <p:nvPr/>
        </p:nvPicPr>
        <p:blipFill>
          <a:blip r:embed="rId1"/>
          <a:srcRect l="0" t="0" r="-19" b="19"/>
          <a:stretch/>
        </p:blipFill>
        <p:spPr>
          <a:xfrm>
            <a:off x="9767880" y="4941720"/>
            <a:ext cx="167976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Calibri"/>
              </a:rPr>
              <a:t>Определ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9520" y="1267920"/>
            <a:ext cx="110523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Наука, которая занимается оценками вероятностей </a:t>
            </a:r>
            <a:r>
              <a:rPr b="0" i="1" lang="ru-RU" sz="5400" spc="-1" strike="noStrike" u="sng">
                <a:solidFill>
                  <a:srgbClr val="000000"/>
                </a:solidFill>
                <a:uFillTx/>
                <a:latin typeface="Georgia"/>
              </a:rPr>
              <a:t>случайных событий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называется </a:t>
            </a:r>
            <a:r>
              <a:rPr b="1" i="1" lang="ru-RU" sz="5400" spc="-1" strike="noStrike">
                <a:solidFill>
                  <a:srgbClr val="3333cc"/>
                </a:solidFill>
                <a:latin typeface="Georgia"/>
              </a:rPr>
              <a:t>теорией вероятностей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9933ff"/>
                </a:solidFill>
                <a:latin typeface="Calibri"/>
              </a:rPr>
              <a:t>Запомним</a:t>
            </a:r>
            <a:r>
              <a:rPr b="1" lang="ru-RU" sz="7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(для самоконтроля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9520" y="1753920"/>
            <a:ext cx="11052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Вероятность достоверного события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гда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равна   </a:t>
            </a: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Вероятность невозможного события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гда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равна   </a:t>
            </a: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Вероятность случайного события всегда            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0 </a:t>
            </a: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&lt;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Р(А) </a:t>
            </a: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&lt;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Calibri"/>
              </a:rPr>
              <a:t>Определ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600" y="1341360"/>
            <a:ext cx="11050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Georgia"/>
              </a:rPr>
              <a:t>(классическое определение вероятност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Вероятностью события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1405d1"/>
                </a:solidFill>
                <a:latin typeface="Georgia"/>
              </a:rPr>
              <a:t>называется отношен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1405d1"/>
                </a:solidFill>
                <a:latin typeface="Georgia"/>
              </a:rPr>
              <a:t>числа благоприятных для него исходов испытания к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1405d1"/>
                </a:solidFill>
                <a:latin typeface="Georgia"/>
              </a:rPr>
              <a:t>числу всех равновозможных исход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1010c2"/>
                </a:solidFill>
                <a:latin typeface="Georgia"/>
              </a:rPr>
              <a:t>где </a:t>
            </a:r>
            <a:r>
              <a:rPr b="1" i="1" lang="ru-RU" sz="2800" spc="-1" strike="noStrike">
                <a:solidFill>
                  <a:srgbClr val="1010c2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m</a:t>
            </a:r>
            <a:r>
              <a:rPr b="1" i="1" lang="ru-RU" sz="2800" spc="-1" strike="noStrike">
                <a:solidFill>
                  <a:srgbClr val="1010c2"/>
                </a:solidFill>
                <a:latin typeface="Georgia"/>
              </a:rPr>
              <a:t> - число исходов, благоприятствующих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1010c2"/>
                </a:solidFill>
                <a:latin typeface="Georgia"/>
              </a:rPr>
              <a:t>     </a:t>
            </a:r>
            <a:r>
              <a:rPr b="1" i="1" lang="ru-RU" sz="2800" spc="-1" strike="noStrike">
                <a:solidFill>
                  <a:srgbClr val="1010c2"/>
                </a:solidFill>
                <a:latin typeface="Georgia"/>
              </a:rPr>
              <a:t>осуществлению событ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1010c2"/>
                </a:solidFill>
                <a:latin typeface="Georgia"/>
              </a:rPr>
              <a:t>     </a:t>
            </a:r>
            <a:r>
              <a:rPr b="1" i="1" lang="ru-RU" sz="2800" spc="-1" strike="noStrike">
                <a:solidFill>
                  <a:srgbClr val="1010c2"/>
                </a:solidFill>
                <a:latin typeface="Georgia"/>
              </a:rPr>
              <a:t>а </a:t>
            </a:r>
            <a:r>
              <a:rPr b="1" i="1" lang="ru-RU" sz="2800" spc="-1" strike="noStrike">
                <a:solidFill>
                  <a:srgbClr val="1010c2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n </a:t>
            </a:r>
            <a:r>
              <a:rPr b="1" i="1" lang="ru-RU" sz="2800" spc="-1" strike="noStrike">
                <a:solidFill>
                  <a:srgbClr val="1010c2"/>
                </a:solidFill>
                <a:latin typeface="Georgia"/>
              </a:rPr>
              <a:t>- число всех возможных исход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888240" y="3860640"/>
            <a:ext cx="3887640" cy="995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Palatino Linotyp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105</dc:creator>
  <dc:description/>
  <dc:language>en-US</dc:language>
  <cp:lastModifiedBy>User105</cp:lastModifiedBy>
  <dcterms:modified xsi:type="dcterms:W3CDTF">2022-01-12T09:11:44Z</dcterms:modified>
  <cp:revision>11</cp:revision>
  <dc:subject/>
  <dc:title>Делов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30000000000010243100207f6000400038000</vt:lpwstr>
  </property>
</Properties>
</file>